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FFDA-7D82-4C43-8A97-8543397A0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7080-69C1-4AE6-8ADC-4C50C713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6901-E22A-4B21-8252-B76310937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DDE3-6A5C-48B7-BAA8-89F1BD8EB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1BCD-0394-4095-BCDB-F1537491C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9F8D-DF58-46C6-B1C2-5CD02E2A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D9D9-7E74-49A3-8263-3CD58A1C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B93B-68F3-4EE4-8F6A-3955D920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0A9E-A7BB-4021-B665-3E571A75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1CA0-5BE4-4492-AA28-AADD0F45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4461-3E98-468E-AECD-713820D6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2414-4B5C-410C-B063-E4CFD2AF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ADF7-A12D-498A-883C-2097C232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007C-CD03-494B-9FA6-0B7BBF73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9AA1-35A1-4A42-9153-89CD49A9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EDBD-AFB4-4185-9CD5-B6B45E89A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3E04-8AEC-4261-9802-F6B13EEB7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736C-E71B-4308-A9E0-6778B7F3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E3D4-7ED6-4B2F-9404-DE696FB4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3146-2A91-41F3-98BB-D2CA08E7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20D4-9929-4BFB-AA43-A083ADAD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92D9-974F-4A23-8F21-7C969767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D7DF-F826-4072-A0B4-76103951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7994-2B10-4C1D-A791-2C91310C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F168-F587-41FE-8E0B-AC87DC92C3B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FDB2-578E-4017-971B-B58B39DD375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8487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Bodoni MT Black"/>
              </a:rPr>
              <a:t>Lesson 6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Bodoni MT Black"/>
              </a:rPr>
              <a:t>THE PARABLE OF THE NE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tthew 13:47-5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APPLICATION </a:t>
            </a:r>
            <a:br>
              <a:rPr sz="4000"/>
            </a:b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parable does not say what to do with those who are NOT walking upright, and refuse to repent, but other New Testament passages 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 Corinthians 5:4, 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cf. verse 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 Thessalonians 3: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f. the following passages – Matt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8:15-18; Romans 16:17; 1 Thes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5:14; 2 Thess 3:6-16; 1 Tim 1:19, 2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LESSONS LEARNE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ust as it was not good enough to be a good fish in the net, it is not enough to just be a good member of the churc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od will purge the evil from His Kingdom in the final 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e must weigh the consequences of “disfellowship a brother” seriously and scripturally before executing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Similitude of the King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is a similitude because of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omparative ter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is more of a parabolic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llustration than a parable, lik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ny of the other parab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Topic:  Judgment of God – The good and the evil will be separated in judgment through angel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SETTING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is is the same setting as the previous parab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parable was taught in private, to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disciples, after entering a hou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is is the last of the Matthew 13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arab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hen Jesus ends this parable He ask,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Have you understood all these things?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everal of the disciples wer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ishermen, and would immediately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rasp the significance of the 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“Net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SETTING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Explanation of the details essential to understanding the parable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“Net” – “SAGENE” – English word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“Seine.”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1. Trench about ½ mile long (use in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    sea of Galilee)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2. Not a simple fish trap, but a net to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    suggest a sweeping that gathers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    everything in it sweep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“Sea” – From a Greek word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suggesting the entirety of the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human race, at will all stand in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judgment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SETTING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“Beach or Shore” – These are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shores of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God’s judgment hal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“Kingdom” – The universal reign of Christ,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worldwide, over every m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This is a companion parable to the Tares,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where the field is the world (Matt 13:38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Christ’s reign is universal both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prophetically and actually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 Psalm 2:6-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 1 Timothy 1:1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 1 Timothy 6:1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 Revelation 19:15-1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SETTING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“The end of the World” come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hen the “Net is full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 The private parables begin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with the “Beginning of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Kingdom” and end with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consummation of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King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 None of the parables mak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room for the 1000 year reig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SETTING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Angels” – They are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harvesters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in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criptu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 Matthew 13:3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 Matthew 25: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. 2 Thessalonians 1: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“Furnace of fire” – A fitting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ymbol for GEHENNA – Hel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H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Weeping and gnashing of teeth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ymbol of punishment of the wicke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eyond judgment (Matt 8:12; 13:42;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2:13; 24:51; 25:30; Lk 13:28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The Min message is that a separation will be made between the righteous and the unrighteou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The parable of the Tares teaches us that the unrighteous are not to be weeded out if there is a chance of uprooting the righteou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We are guilty of sin if we cause a brother to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stumble. If he loses his soul because of us, we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can lose our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B. By sorting out the unrighteous in the church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that are NOT causing problems could split the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church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lways a chance they may see the error of their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way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The parable teaches that God will take care of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the unrepentant in judgment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APPLICATION </a:t>
            </a:r>
            <a:br>
              <a:rPr sz="4000"/>
            </a:b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There are both good and bad in the church. Be sure you are the goo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Faithful attendance is a good start, but not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Liberal giving is good, but not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Singing voice is good, but not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Being eloquent in prayer is good, but not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Great Bible teach is good, but not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F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Being an elder/deacon is good, but not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G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Visiting sick/shut-ins is good, but not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H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Taking a meal to someone just out of the hospital is good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but not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I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Taking notes on sermons is good, but not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J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ttending Bible lectures is good, but not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K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Having a Bible degree is good, but not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L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ll of the above is good, but not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M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Having the mind of Christ, being willing and loving, being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in subjection to His commands is what is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2T20:38:22Z</dcterms:created>
  <dc:creator>Jerry Cantrell </dc:creator>
  <dc:description/>
  <dc:language>en-US</dc:language>
  <cp:lastModifiedBy>Jerry Cantrell </cp:lastModifiedBy>
  <dcterms:modified xsi:type="dcterms:W3CDTF">2006-01-22T22:44:23Z</dcterms:modified>
  <cp:revision>12</cp:revision>
  <dc:subject/>
  <dc:title>THE PARABLE OF THE NET</dc:title>
</cp:coreProperties>
</file>